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3CC-4328-4CFA-95B6-BD904500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6A7-2114-4136-9703-041E956B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AA0-BCEA-4AAA-8346-5BD9DE81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B22-14E7-4A78-B8A1-B15A4439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BE3-6BF2-4AAD-AF98-6A847062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7E4-7BE2-4DB9-85A5-8DD845F4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6A11-54FA-4053-96A9-627A7D33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661-9F62-46AA-BD7D-F733994A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58E-DDD0-40C9-A840-3239FF44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029-C625-4ED7-8248-B9F1D6E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54A-B137-4F2F-A6D2-04B0CD1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36B-EFCC-4FB4-8C2E-6F050B0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F7A-B01E-4A9F-A5A0-CE72FBFA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gclips.com/movie-clips/cinderella-man/breaking-my-promise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4-2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work with my peers to develop a deeper understanding of th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parent do you agree with? 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771120" y="563868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ingclips.com/movie-clips/cinderella-man/breaking-my-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assigned reading pages and job page for the discussion which will take place the second half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on your Thoughtful Text 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all of the work, you may get with your group members to work on your trailer, read your SSR book, or work on the “I Can”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las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ll members of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ember speak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oup members will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must 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ut dow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fornian FB"/>
              </a:rPr>
              <a:t>Discussion Task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Discussion Dir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t in your “two c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iterary Luminary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ord Wizard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p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reative Conn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ke one from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telligent Illustra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 corners quick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share your “Thoughtful Text”, take a card every time you share a piece of text or respon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deas for Invisible Children 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are the kids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are the kids in danger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has the group “Invisible Children” done for the kids so 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will the money raised go?  What purpose do the funds 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y should people d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Powerful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Statements from th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53:42Z</dcterms:created>
  <dc:creator>Administrator</dc:creator>
  <dc:description/>
  <dc:language>en-US</dc:language>
  <cp:lastModifiedBy>Administrator</cp:lastModifiedBy>
  <dcterms:modified xsi:type="dcterms:W3CDTF">2011-04-26T02:05:47Z</dcterms:modified>
  <cp:revision>5</cp:revision>
  <dc:subject/>
  <dc:title>Do Now 4-26 I can work with my peers to develop a deeper understanding of the text.</dc:title>
</cp:coreProperties>
</file>